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9.gif" ContentType="image/gif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5.gif" ContentType="image/gif"/>
  <Override PartName="/ppt/media/image20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6.jpeg" ContentType="image/jpeg"/>
  <Override PartName="/ppt/media/image5.gif" ContentType="image/gif"/>
  <Override PartName="/ppt/media/image11.gif" ContentType="image/gif"/>
  <Override PartName="/ppt/media/image14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gif" ContentType="image/gi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0A63-D611-4FD1-81C7-9BF2E78C2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1C0A-DBE8-4919-BF68-7D20F7A15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67E4-C9FC-49FC-A5F1-FABFA04AB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5759-F0D3-4F93-B4F7-2639E47DF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660C9-74AF-4D6C-80D2-430BE11C6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F7A8C-8C81-4FE5-A4E4-F732DC870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63B8A-AE28-4852-9258-F99555FD1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1B724-0BC7-443C-B9C4-902D53E14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143B1-E53F-4349-BEA0-4F6CD5776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54668-C336-4255-BF3B-2B83EACEA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A5A11-FE36-4026-B2FF-7EB4AAE5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0901-A17D-440D-8CCB-C1716FC8C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4FEA5-371B-4A4B-BF8A-68D918D8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446B0-3039-4B3D-86F5-7649BE69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0CE03-9F18-47DA-8ECF-3C8E485EF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20ED2-1519-4AEA-8563-1F61EB8E2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BD370-078E-4D1B-85BB-F24027E9B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10AB8-DE3D-4EFC-B3EB-DA3C93E9E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2C9B2-FB6D-4EE1-A93A-93A6C5E5C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FE6C5-F253-42AE-807E-07030D9AF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FC39C-8AD8-4BDC-A5F0-061268A4D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7D7F2-C446-4F8D-A513-B5200FF2D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B53C-49E9-4BE4-A202-5CFD0628F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C7AAA-D9C3-46EA-B1E8-6258159E5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DDBFF-C88D-445B-AA58-7D603D870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4EC11-59D9-4984-A342-7D1A09DAC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D421B-F944-4330-9CB1-BA4B52ED9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46E12-A5DC-4AB1-8F4C-16E7532F6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CBBDD-2FAE-47D3-BFD3-F787456DC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6D2C4-5BAC-4B3D-86B0-905B70A68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087BF-CE18-4A2C-9DBA-1672E150A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D31E7-B93E-4273-9E00-4BB43814E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8C9E0-DC21-43DC-954C-21178AF97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3EDA-5396-4A99-B4FC-042C65D2C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37735-9D92-4462-B7AB-7E87F26CB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2C1BC-89B2-4C11-829E-C2B2D751D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68439-FA1B-455E-92D9-C93A33D4B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8A4B8-11CA-43C3-AEFA-3C7385DF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508E6-A9E1-4A53-ABF2-C855A7AE1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CB94B-108E-472C-9A98-58067DA63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0DBF1-8008-4E6C-8217-566B9AB22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C7496-428C-4881-A672-202AF969D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075C7-7E99-4820-A711-A8C7F0BAE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710C1-F717-4374-8F27-AB72DE1C9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AEB0-C04B-4FF0-ABA1-3A3D43491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170A3-68EB-412E-8A03-11B33433B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6B034-66F9-4B75-8734-848DEC0D7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81D40-4D73-4BAE-B7F5-7A50971A9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1F9208-E043-4881-99D1-31EF8941A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B44E4-55CE-48F2-9681-A76073CE6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EDC302-D115-4F33-B6A6-791BE9F7D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F7DC34-90E5-42A9-A8F9-298DC5D71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5A2A68-AC75-4164-AEAE-2065A848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79CB88-7067-4B6B-A890-6ADC03D45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21568-2983-459B-8C34-3B39B70D2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6A5F-8263-4C8B-8C96-D4E108003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F8D5BC-CB14-43C7-A715-C2CD5E989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5FF3-B58F-4B8E-9F41-E2F757353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4AB9-3203-48F9-9276-D6A692590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ABF3-2AE1-4CA8-B94E-36A16261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91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8F9D3-75CD-4E53-AE88-94E4D75A4BA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91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3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DDB65-8159-4331-8A11-39320A81CB4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91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03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9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10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2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E5784-3DC0-4A9B-9A1C-90B0B3E430A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91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57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82DBB-6F13-4123-B978-16392F8AB46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91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6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207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12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4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053F7-70C1-486B-B9A8-E631D7DBCB0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63680" y="228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Corbel"/>
              </a:rPr>
              <a:t>ПУБЛИЧНЫЙ ДОКЛАД</a:t>
            </a:r>
            <a:r>
              <a:rPr b="1" lang="ru-RU" sz="4300" spc="-1" strike="noStrike">
                <a:solidFill>
                  <a:srgbClr val="ff0000"/>
                </a:solidFill>
                <a:latin typeface="Corbel"/>
              </a:rPr>
              <a:t> </a:t>
            </a:r>
            <a:br>
              <a:rPr sz="4300"/>
            </a:br>
            <a:r>
              <a:rPr b="0" lang="ru-RU" sz="4000" spc="-1" strike="noStrike">
                <a:solidFill>
                  <a:srgbClr val="572314"/>
                </a:solidFill>
                <a:latin typeface="Corbel"/>
              </a:rPr>
              <a:t>директора ГУ СОШ №23</a:t>
            </a:r>
            <a:br>
              <a:rPr sz="4000"/>
            </a:br>
            <a:r>
              <a:rPr b="0" lang="ru-RU" sz="4000" spc="-1" strike="noStrike">
                <a:solidFill>
                  <a:srgbClr val="572314"/>
                </a:solidFill>
                <a:latin typeface="Corbel"/>
              </a:rPr>
              <a:t> г. Павлодара </a:t>
            </a:r>
            <a:br>
              <a:rPr sz="4000"/>
            </a:br>
            <a:r>
              <a:rPr b="0" lang="ru-RU" sz="4000" spc="-1" strike="noStrike">
                <a:solidFill>
                  <a:srgbClr val="572314"/>
                </a:solidFill>
                <a:latin typeface="Corbel"/>
              </a:rPr>
              <a:t>Макулова Серика Имангалиевича</a:t>
            </a:r>
            <a:br>
              <a:rPr sz="4000"/>
            </a:br>
            <a:r>
              <a:rPr b="0" lang="ru-RU" sz="4000" spc="-1" strike="noStrike">
                <a:solidFill>
                  <a:srgbClr val="572314"/>
                </a:solidFill>
                <a:latin typeface="Corbel"/>
              </a:rPr>
              <a:t> за 2011-2012 учебный год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Рисунок 3" descr=""/>
          <p:cNvPicPr/>
          <p:nvPr/>
        </p:nvPicPr>
        <p:blipFill>
          <a:blip r:embed="rId1"/>
          <a:stretch/>
        </p:blipFill>
        <p:spPr>
          <a:xfrm>
            <a:off x="1066680" y="0"/>
            <a:ext cx="2552760" cy="334800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 txBox="1"/>
          <p:nvPr/>
        </p:nvSpPr>
        <p:spPr>
          <a:xfrm>
            <a:off x="3580920" y="304920"/>
            <a:ext cx="49849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ремцова Надежда Александровна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место в городском конкурсе «Лучшее методическое пособие», обобщение педагогического опыта на город, 3 место в интернет-фестивале «Современный урок -2012», награждена благодарственным письмом управления образования Павлодарской области за подготовку призеров на областной выставке прикладного искусства «Атамұра», посвященной 20-летию Независимости Казахстана, награждена дипломом за участие в 14 городском фестивале этнической культуры и прикладного искусств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80" name="Рисунок 3" descr="Berds-And-Flowers-Animated-yorkshire_rose-12163728-394-419.gif"/>
          <p:cNvPicPr/>
          <p:nvPr/>
        </p:nvPicPr>
        <p:blipFill>
          <a:blip r:embed="rId2"/>
          <a:stretch/>
        </p:blipFill>
        <p:spPr>
          <a:xfrm>
            <a:off x="1486080" y="3581280"/>
            <a:ext cx="2400120" cy="2233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200040" y="609120"/>
            <a:ext cx="5334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Шакуова Нуржамал        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ейфималиковн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   – учитель математик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место в городском конкурсе «Лучшее методическое пособие», провела семинар для слушателей курсов ИПК ПК по технологии полного усвоения, тренер по технологии полного усвоения и личностно-ориентированного обучения городского и областного масштаб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82" name="Рисунок 3" descr="8.gif"/>
          <p:cNvPicPr/>
          <p:nvPr/>
        </p:nvPicPr>
        <p:blipFill>
          <a:blip r:embed="rId1"/>
          <a:stretch/>
        </p:blipFill>
        <p:spPr>
          <a:xfrm rot="1509000">
            <a:off x="469800" y="3681360"/>
            <a:ext cx="2524320" cy="2772000"/>
          </a:xfrm>
          <a:prstGeom prst="rect">
            <a:avLst/>
          </a:prstGeom>
          <a:ln w="0">
            <a:noFill/>
          </a:ln>
        </p:spPr>
      </p:pic>
      <p:pic>
        <p:nvPicPr>
          <p:cNvPr id="283" name="Рисунок 4" descr="рео.jpg"/>
          <p:cNvPicPr/>
          <p:nvPr/>
        </p:nvPicPr>
        <p:blipFill>
          <a:blip r:embed="rId2"/>
          <a:stretch/>
        </p:blipFill>
        <p:spPr>
          <a:xfrm>
            <a:off x="990720" y="304920"/>
            <a:ext cx="2490840" cy="3124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3809880" y="457200"/>
            <a:ext cx="4972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70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малова Зауреш Кабдулловна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учитель математики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70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е участие принимает в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70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деятельностных играх в рамках города, участница методического аукциона в газете «Ұстаздар», опубликовала в помощь учителям «Математические диктанты для 5 класса».Тренер по технологии ТИСО  городского масштаба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3450960" cy="25909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Рисунок 6" descr="Butterfly-and-Flowers-yorkshire_rose-26531952-355-458.gif"/>
          <p:cNvPicPr/>
          <p:nvPr/>
        </p:nvPicPr>
        <p:blipFill>
          <a:blip r:embed="rId1"/>
          <a:stretch/>
        </p:blipFill>
        <p:spPr>
          <a:xfrm rot="399000">
            <a:off x="708120" y="3101760"/>
            <a:ext cx="2438280" cy="3146400"/>
          </a:xfrm>
          <a:prstGeom prst="rect">
            <a:avLst/>
          </a:prstGeom>
          <a:ln w="0">
            <a:noFill/>
          </a:ln>
        </p:spPr>
      </p:pic>
      <p:pic>
        <p:nvPicPr>
          <p:cNvPr id="287" name="Рисунок 3" descr=""/>
          <p:cNvPicPr/>
          <p:nvPr/>
        </p:nvPicPr>
        <p:blipFill>
          <a:blip r:embed="rId2"/>
          <a:stretch/>
        </p:blipFill>
        <p:spPr>
          <a:xfrm>
            <a:off x="1143000" y="352440"/>
            <a:ext cx="2057400" cy="274320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3580920" y="990720"/>
            <a:ext cx="5257800" cy="25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55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Щепко Наталья Васильевна-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ого языка и литературы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уреат Пушкинской пермии, победитель 11 Международного Пушкинского конкурса педагогов-русистов. (г. Москва)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55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 победителя республиканского конкурса школьных сочинений «Хочешь быть журналистом?», проведенный факультетом журналистики КазНУ им. аль-Фараби ( г. Алматы); Участница областного конкурса «Кітапханалық сабақ-2011», награждена благодарственным письмом отдела культуры и развития языков за участие в городских мероприятиях, посвященных празднику Наурыз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Рисунок 5" descr="e61e0a7c750f.gif"/>
          <p:cNvPicPr/>
          <p:nvPr/>
        </p:nvPicPr>
        <p:blipFill>
          <a:blip r:embed="rId1"/>
          <a:stretch/>
        </p:blipFill>
        <p:spPr>
          <a:xfrm>
            <a:off x="1219320" y="3962520"/>
            <a:ext cx="981000" cy="144756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 txBox="1"/>
          <p:nvPr/>
        </p:nvSpPr>
        <p:spPr>
          <a:xfrm>
            <a:off x="3200400" y="685440"/>
            <a:ext cx="5410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вастова Вера Ивановн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амота отдела физической культуры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раждена грамотой отдела культуры и спорта города Павлодара за значительный вклад в развитие физической культуры и спорта города Павлодара, подготовила призера по легкой атлетике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Щукина Алена – 9 класс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91" name="Рисунок 3" descr="e61e0a7c750f.gif"/>
          <p:cNvPicPr/>
          <p:nvPr/>
        </p:nvPicPr>
        <p:blipFill>
          <a:blip r:embed="rId2"/>
          <a:stretch/>
        </p:blipFill>
        <p:spPr>
          <a:xfrm>
            <a:off x="963720" y="4705200"/>
            <a:ext cx="1258920" cy="1857600"/>
          </a:xfrm>
          <a:prstGeom prst="rect">
            <a:avLst/>
          </a:prstGeom>
          <a:ln w="0">
            <a:noFill/>
          </a:ln>
        </p:spPr>
      </p:pic>
      <p:pic>
        <p:nvPicPr>
          <p:cNvPr id="292" name="Рисунок 4" descr="e61e0a7c750f.gif"/>
          <p:cNvPicPr/>
          <p:nvPr/>
        </p:nvPicPr>
        <p:blipFill>
          <a:blip r:embed="rId3"/>
          <a:stretch/>
        </p:blipFill>
        <p:spPr>
          <a:xfrm>
            <a:off x="1757520" y="4419720"/>
            <a:ext cx="930240" cy="13716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6" descr="C:\Users\0\Desktop\Фото школы\IMG_0094.JPG"/>
          <p:cNvPicPr/>
          <p:nvPr/>
        </p:nvPicPr>
        <p:blipFill>
          <a:blip r:embed="rId4"/>
          <a:stretch/>
        </p:blipFill>
        <p:spPr>
          <a:xfrm>
            <a:off x="160200" y="152280"/>
            <a:ext cx="3149640" cy="35053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Рисунок 3" descr="Безымянный.jpg"/>
          <p:cNvPicPr/>
          <p:nvPr/>
        </p:nvPicPr>
        <p:blipFill>
          <a:blip r:embed="rId1"/>
          <a:stretch/>
        </p:blipFill>
        <p:spPr>
          <a:xfrm>
            <a:off x="1111320" y="3716280"/>
            <a:ext cx="3200400" cy="2962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 txBox="1"/>
          <p:nvPr/>
        </p:nvSpPr>
        <p:spPr>
          <a:xfrm>
            <a:off x="4114800" y="837720"/>
            <a:ext cx="4819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губаев Темиржан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к 9 «А» класса,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иплом за победу в городском конкурсе научных проектов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96" name="Picture 3" descr=""/>
          <p:cNvPicPr/>
          <p:nvPr/>
        </p:nvPicPr>
        <p:blipFill>
          <a:blip r:embed="rId2"/>
          <a:stretch/>
        </p:blipFill>
        <p:spPr>
          <a:xfrm>
            <a:off x="1143000" y="228600"/>
            <a:ext cx="2590920" cy="34876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4038120" y="1066320"/>
            <a:ext cx="47437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75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Шугаева Асель и Мамаева Диана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цы 9 и 8 классов - Диплом 3 степени в областной выставке декаративно-прикладного творчества «Атамура», посвященной 20-летию Независимости РК.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75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98" name="Picture 3" descr=""/>
          <p:cNvPicPr/>
          <p:nvPr/>
        </p:nvPicPr>
        <p:blipFill>
          <a:blip r:embed="rId1"/>
          <a:stretch/>
        </p:blipFill>
        <p:spPr>
          <a:xfrm>
            <a:off x="990720" y="380880"/>
            <a:ext cx="2971800" cy="4003920"/>
          </a:xfrm>
          <a:prstGeom prst="rect">
            <a:avLst/>
          </a:prstGeom>
          <a:ln w="0">
            <a:noFill/>
          </a:ln>
        </p:spPr>
      </p:pic>
      <p:sp>
        <p:nvSpPr>
          <p:cNvPr id="299" name="TextBox 3"/>
          <p:cNvSpPr/>
          <p:nvPr/>
        </p:nvSpPr>
        <p:spPr>
          <a:xfrm>
            <a:off x="1600200" y="449568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ертификат за хорошую подготовку в городском конкурсе научных проект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heel spokes="1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4343040" y="990360"/>
            <a:ext cx="4591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убаракова Гульмир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ченица 9 «А» класса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ертификат за хорошую подготовку в городском конкурсе научных проектов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1" name="Picture 2" descr=""/>
          <p:cNvPicPr/>
          <p:nvPr/>
        </p:nvPicPr>
        <p:blipFill>
          <a:blip r:embed="rId1"/>
          <a:stretch/>
        </p:blipFill>
        <p:spPr>
          <a:xfrm>
            <a:off x="1033560" y="324000"/>
            <a:ext cx="3355920" cy="43434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914040" y="609120"/>
            <a:ext cx="8211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оркин Николай 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к 9 класса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мота за участие в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ональной научно- практической конференции школьников «Моя Родина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азахстан» в номинации «Юный исследователь»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3" name="Picture 3" descr=""/>
          <p:cNvPicPr/>
          <p:nvPr/>
        </p:nvPicPr>
        <p:blipFill>
          <a:blip r:embed="rId1"/>
          <a:stretch/>
        </p:blipFill>
        <p:spPr>
          <a:xfrm rot="681000">
            <a:off x="5257440" y="3124080"/>
            <a:ext cx="2792520" cy="34149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1143000" y="304560"/>
            <a:ext cx="7499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rbe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Corbel"/>
              </a:rPr>
              <a:t>Цели  и задачи конференции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Информировать родителей (законных представителей), местную общественность об основных результатах и проблемах функционирования и развития школы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2012-2013 учебном году, способствовать развитию партнерских отношений между школой и родителями (законными представителями), местной общественностью, бизнес – сообществом. Информация представленная в докладе, является достоверной, отражает реальное состояния развития школы в 2011-2012 учебном году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Объект 3" descr=""/>
          <p:cNvPicPr/>
          <p:nvPr/>
        </p:nvPicPr>
        <p:blipFill>
          <a:blip r:embed="rId1"/>
          <a:stretch/>
        </p:blipFill>
        <p:spPr>
          <a:xfrm>
            <a:off x="2438280" y="1371600"/>
            <a:ext cx="5079960" cy="3809880"/>
          </a:xfrm>
          <a:prstGeom prst="rect">
            <a:avLst/>
          </a:prstGeom>
          <a:ln w="0">
            <a:noFill/>
          </a:ln>
        </p:spPr>
      </p:pic>
      <p:sp>
        <p:nvSpPr>
          <p:cNvPr id="260" name="TextBox 4"/>
          <p:cNvSpPr/>
          <p:nvPr/>
        </p:nvSpPr>
        <p:spPr>
          <a:xfrm>
            <a:off x="907200" y="304920"/>
            <a:ext cx="8175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 желтоқсан-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Қазақстан Республикасының бірінші Президент күні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TextBox 5"/>
          <p:cNvSpPr/>
          <p:nvPr/>
        </p:nvSpPr>
        <p:spPr>
          <a:xfrm>
            <a:off x="2373480" y="5545080"/>
            <a:ext cx="400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c32d2e"/>
                </a:solidFill>
                <a:latin typeface="Segoe Script"/>
              </a:rPr>
              <a:t>Құттықтаймыз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2" name="Рисунок 10" descr=""/>
          <p:cNvPicPr/>
          <p:nvPr/>
        </p:nvPicPr>
        <p:blipFill>
          <a:blip r:embed="rId2"/>
          <a:stretch/>
        </p:blipFill>
        <p:spPr>
          <a:xfrm>
            <a:off x="6553080" y="4890960"/>
            <a:ext cx="1905120" cy="17859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Рисунок 4" descr="e61e0a7c750f.gif"/>
          <p:cNvPicPr/>
          <p:nvPr/>
        </p:nvPicPr>
        <p:blipFill>
          <a:blip r:embed="rId1"/>
          <a:stretch/>
        </p:blipFill>
        <p:spPr>
          <a:xfrm rot="20880000">
            <a:off x="837720" y="914400"/>
            <a:ext cx="914400" cy="1349280"/>
          </a:xfrm>
          <a:prstGeom prst="rect">
            <a:avLst/>
          </a:prstGeom>
          <a:ln w="0">
            <a:noFill/>
          </a:ln>
        </p:spPr>
      </p:pic>
      <p:pic>
        <p:nvPicPr>
          <p:cNvPr id="264" name="Рисунок 3" descr="e61e0a7c750f.gif"/>
          <p:cNvPicPr/>
          <p:nvPr/>
        </p:nvPicPr>
        <p:blipFill>
          <a:blip r:embed="rId2"/>
          <a:stretch/>
        </p:blipFill>
        <p:spPr>
          <a:xfrm rot="20586000">
            <a:off x="175680" y="1245960"/>
            <a:ext cx="914400" cy="1349280"/>
          </a:xfrm>
          <a:prstGeom prst="rect">
            <a:avLst/>
          </a:prstGeom>
          <a:ln w="0">
            <a:noFill/>
          </a:ln>
        </p:spPr>
      </p:pic>
      <p:pic>
        <p:nvPicPr>
          <p:cNvPr id="265" name="Рисунок 2" descr="e61e0a7c750f.gif"/>
          <p:cNvPicPr/>
          <p:nvPr/>
        </p:nvPicPr>
        <p:blipFill>
          <a:blip r:embed="rId3"/>
          <a:stretch/>
        </p:blipFill>
        <p:spPr>
          <a:xfrm>
            <a:off x="0" y="0"/>
            <a:ext cx="1362240" cy="20098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 txBox="1"/>
          <p:nvPr/>
        </p:nvSpPr>
        <p:spPr>
          <a:xfrm>
            <a:off x="990360" y="31680"/>
            <a:ext cx="8001000" cy="62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8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и и задачи программы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8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единого развивающего пространства, создание условий для формирования духовно-развитой социально-адаптивной личности;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8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пределить основные  компоненты педагогического процесса и педагогических условий формирования психически здоровой, социально-активной личности, способной к самоопределению и  самореализации;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8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ыявить условия и найти способы реализации творческого потенциала педагогов при овладении ими и применении современных педагогических технологий развивающего и личностно-ориентированного характера;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8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завершить переход  управления педагогическим процессом на диагностико- технологическую основу, подразумевающую ориентацию на личность учащегося, родителя, на конечный результат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8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вернуть работы творческих групп педагогов и методических объединений по реализации основных направлений программы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8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явить и отработать способы самореализации, самоопределения личности, ее социальной активности, возможности различных личностно ориентированных технологий, реализующих это направление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8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Разработать модель социально - активной личности, способной к устойчивой самореализации и самоопределению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8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Определить и внедрить в работу наиболее оптимальные формы взаимодействия педагогов с родителями и общественностью, способствующие комплексному развитию образовательного учреждения и направленные на самоопределение, самореализацию учащихся, формирования их социальной активности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8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8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95280" y="151920"/>
            <a:ext cx="74995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лан-график реализации Программы развития школы. 3 этап 2012-2013 учебный год.</a:t>
            </a:r>
            <a:endParaRPr b="0" lang="en-US" sz="23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345960" y="914400"/>
          <a:ext cx="8763120" cy="5719680"/>
        </p:xfrm>
        <a:graphic>
          <a:graphicData uri="http://schemas.openxmlformats.org/drawingml/2006/table">
            <a:tbl>
              <a:tblPr/>
              <a:tblGrid>
                <a:gridCol w="4149720"/>
                <a:gridCol w="2427480"/>
                <a:gridCol w="21859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правление и задачи изменени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жидаемые результат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ветственны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548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Разработать план следующего этапа реализации Программы развития школы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 реализации третьего этап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директора по методической работе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Обеспечить мотивационную готовность учителей в создании личностно - ориентированного (дифференцированного) обучения в многопрофильных классах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копление опыта работы по новым педагогическим технология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директора по методической работе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776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Разработать программно - методическое обеспечение реализации дифференцированного обучения по предмета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программно-методических разработок по предметам в класса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оводитель(ТГ), руководители М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Апробировать модель дифференцированного обучения в классах в 1,2,3 ступенях образования ( по выбору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ышение уровня мотивации учебных достижений при снижении перегрузки учащихся 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директора по методической работе, рук. (ТГ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100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Провести анализ проведенной апробации (внутренней и внешней дифференциации)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итические выводы и обобщение опыта по реализации "Программы развития школы"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директора по методической работе, рук. (ТГ)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1005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Создать необходимые ресурсы для реализации личностно- ориентированного дифференцированного подхода в обучении на следующем этапе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ртовая площадка для начала следующего этапа. 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естители директора школ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47560" y="-15264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0000"/>
                </a:solidFill>
                <a:latin typeface="Corbel"/>
              </a:rPr>
              <a:t>Финансирование 2011-2012 г.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1143000" y="838080"/>
          <a:ext cx="7086600" cy="5619960"/>
        </p:xfrm>
        <a:graphic>
          <a:graphicData uri="http://schemas.openxmlformats.org/drawingml/2006/table">
            <a:tbl>
              <a:tblPr/>
              <a:tblGrid>
                <a:gridCol w="5029200"/>
                <a:gridCol w="2057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ыс.тг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434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камен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501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обретение канцелярских товар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горячего питания для детей из м/о семей, детей-сиро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обретение   одежды и обуви для детей из малообеспеченных семей и детей сиро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4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и проведение спортивно-оздоровительных мероприят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488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готовление меб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785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ительные това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5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785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това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6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0000"/>
                </a:solidFill>
                <a:latin typeface="Corbel"/>
              </a:rPr>
              <a:t>Качественный состав учителей: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1066680" y="1447920"/>
          <a:ext cx="7391520" cy="3809880"/>
        </p:xfrm>
        <a:graphic>
          <a:graphicData uri="http://schemas.openxmlformats.org/drawingml/2006/table">
            <a:tbl>
              <a:tblPr/>
              <a:tblGrid>
                <a:gridCol w="2362320"/>
                <a:gridCol w="1447920"/>
                <a:gridCol w="2209680"/>
                <a:gridCol w="1371600"/>
              </a:tblGrid>
              <a:tr h="8859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разование 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тегория  в  количестве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е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ая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. спец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ая 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ая 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105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 учителе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4343040" y="837720"/>
            <a:ext cx="45910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акулов Серик Имангалиевич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обедитель городского конкурса «Лидер в образовании - 2012» в номинации «Открытый мир»,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место в городском конкурсе «Лучшее методическое пособие»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гажден Почетной грамотой городского маслихат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74" name="Picture 4" descr="C:\Users\0\Desktop\фото директора.jpg"/>
          <p:cNvPicPr/>
          <p:nvPr/>
        </p:nvPicPr>
        <p:blipFill>
          <a:blip r:embed="rId1"/>
          <a:stretch/>
        </p:blipFill>
        <p:spPr>
          <a:xfrm>
            <a:off x="977760" y="1157400"/>
            <a:ext cx="3200400" cy="42670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Объект 3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2008440" cy="2590920"/>
          </a:xfrm>
          <a:prstGeom prst="rect">
            <a:avLst/>
          </a:prstGeom>
          <a:ln w="0">
            <a:noFill/>
          </a:ln>
        </p:spPr>
      </p:pic>
      <p:sp>
        <p:nvSpPr>
          <p:cNvPr id="276" name="Прямоугольник 4"/>
          <p:cNvSpPr/>
          <p:nvPr/>
        </p:nvSpPr>
        <p:spPr>
          <a:xfrm>
            <a:off x="3733920" y="1295280"/>
            <a:ext cx="4647960" cy="46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разалина Гульбаршин Айтбековн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3 место в городском конкурсе «Лучшее методическое пособие»; участница республиканской научно-практической конференции «3 Шаяхметов оқулары»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 «Экологическое воспитание школьников»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 победителя победителем городского конкурса защиты научных проектов.  (Агубаев Темиржан – 8 класс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7" name="Рисунок 5" descr="Animated-Beautiful-Flowers-Pictures-25.gif"/>
          <p:cNvPicPr/>
          <p:nvPr/>
        </p:nvPicPr>
        <p:blipFill>
          <a:blip r:embed="rId2"/>
          <a:stretch/>
        </p:blipFill>
        <p:spPr>
          <a:xfrm>
            <a:off x="1219320" y="3962520"/>
            <a:ext cx="1904760" cy="17524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omputer</dc:creator>
  <dc:description/>
  <dc:language>en-US</dc:language>
  <cp:lastModifiedBy>34</cp:lastModifiedBy>
  <dcterms:modified xsi:type="dcterms:W3CDTF">2012-11-26T04:47:10Z</dcterms:modified>
  <cp:revision>16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